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wmf" ContentType="image/x-wmf"/>
  <Override PartName="/ppt/media/image21.jpeg" ContentType="image/jpeg"/>
  <Override PartName="/ppt/media/image2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32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90F7-1263-4B43-93CE-4937937B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4F9F-CDAD-409B-A3D7-E2C9F8CD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9B42-6939-4696-A619-708D4C35B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17A6-20FA-4CEF-9629-71820F97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4371-F3BF-4DCA-B145-75236315F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BCC2-129F-4060-9F98-CEE4934A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1A85B-2432-4AD2-AAC1-D2DC8413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BA7A-D0A9-449A-BD59-26D9786C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8F6B-8FD6-42E5-A39F-D3D851FE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4DAD-1AA6-4BE7-80F4-EA5668D5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D678-066C-4BA2-9725-6AD0B47F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FDE1-0B83-4381-8F65-307754AA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CCA7-1A58-4280-9187-8E443B6B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3823-75FD-4DF8-979D-FD04268A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CDA6-7AB2-48D8-8236-42D578EF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2AE80-E067-4B02-AC08-6F4B6C839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43A5-5623-4FC0-8D8B-E513714FC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4D47-BCC6-4DC1-BCAF-7E352BBC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6108-1ACD-463B-A741-EFD913DA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24A9-AB9F-41F6-9C30-E3D97BC6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B96B-24CA-4326-843B-C3D94CC6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CBEF-6F6D-4EF1-9507-95D91805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DF40-115A-403F-8075-43D0479F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F616-E06B-443B-9443-6817D9CE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7D6E-4285-4FCD-AA4D-AB3C18FEE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7E59B-99BB-4894-8A08-ACBE1CEFA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aikforum.de/zzz_history_gr/Geraete/vasculator3.htm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MEHANOTERAPIJ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anja Zečević Lukovi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Trljanje (friction)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vršnim tkivom masira se dublje (potkožn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što veće trenje, sporiji i snažniji rit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fekti: povećanje elastičnosti i kontraktilnosti mišić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ožiljke, adhezije, fibrozna zadeblj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4114800" cy="38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Gnječenje (pretisage)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ava masaž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asaža mišića, aparaturno nezamenj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fekti: hiperemija mišića, smanjenje tonusa, eliminacija metabol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0" descr=""/>
          <p:cNvPicPr/>
          <p:nvPr/>
        </p:nvPicPr>
        <p:blipFill>
          <a:blip r:embed="rId1">
            <a:grayscl/>
            <a:lum contrast="12000"/>
          </a:blip>
          <a:stretch/>
        </p:blipFill>
        <p:spPr>
          <a:xfrm>
            <a:off x="4724280" y="2209680"/>
            <a:ext cx="4186440" cy="3935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Lupkanje (percusion)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rzi ritmični odsečni udari naizmenič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lnarnom stran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eckanje”,volarnom stranom “pljeskanj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fekti: poboljšava metabolizam i tonus  mišića, stimulativ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11480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Vibracije (vibration)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rzi, uzastopni potresi segmenata koji se masi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fekti: smanjuje nadražljivost i prag za 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parati za vibromasaž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11480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Fiziološki opšti efekti masaž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nalgets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manjenje mišićnog ton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manjenje opšteg zam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edacija, relaks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ad 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gulacija pul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etabolič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Lokalni efekti masaž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hiperem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sorpcija ot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etabolič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većanje aktivnosti znojnih i lojnih žlez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većanje turgora i elastičnosti kož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boljšanje epitelizacije i granul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nalgetsk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pazmolitičk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Indikacije za opštu masažu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ekovanlescen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naktiv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N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sten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zmet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Indikacije za lokalnu masažu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ttraumatske prom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žilj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ntrak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umatska oboljenja u subakutnoj i hroničnoj faz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pastične i mlitave par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naktivitetna slab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olovi (reumatski, išijadični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vod u kineziterapi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Kontraindikacije za masažu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paljenski procesi kože i potkožnog tk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žne bole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um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pecifični procesi na zglobov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limfangitis, trombofleb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arikozite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kolonost ka krvare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lkoholizam, narkomanij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tanja nakon operacija, politraume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Principi manuelne masaž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truč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higij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svetlje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emperatura oko 2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jum (talk, vazel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NE masirat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že ožiljke, rane, varikozit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Podela mehanoterapij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7280" indent="-1036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elna mas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1036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jalni oblici mas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1036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raturna mas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1036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obar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proced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1036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elne terapijske tehnik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anipulacij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1036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ktenzione procedure (trakcij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1036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terapija (infra i ultrazvu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Refleksna masaž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eko tačaka na koži deluje na organe koji imaju isti nivo spinalne inerv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d oboljenja unutrašnjih organa, nervnog sistema i zglobova, u zoni koja ima isti nivo spinalne inervacije, javljaju se promene na površini (u koži, potkožnom tkivu, mišićima i periostu) koje održavaju osnovno oboljenj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cc0066"/>
                </a:solidFill>
                <a:latin typeface="Times New Roman"/>
              </a:rPr>
              <a:t>postaju izvor patoloških impul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Vrste refleksne</a:t>
            </a:r>
            <a:r>
              <a:rPr b="1" i="1" lang="en-GB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masa</a:t>
            </a: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ž</a:t>
            </a:r>
            <a:r>
              <a:rPr b="1" i="1" lang="en-GB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leksnom masažom se otkrivaju  patološke promene u refleksnim zonama i deluje na njih specijalnom masažom radi njihovog otklanj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ezivnog tk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erio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rvnih t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mentna mas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Masaža vezivnog tkiv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većanje tenzije veziva u Hedovim zonama, reljef kože izmenjen, čvorići u  potkožnom tkivu, slojevi manje pokret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angecijalno povlačenje kože i potkožnog tkiva od fascije jagodicama 3. i 4.prsta; u pravcu linija rascepa uz lak, oštar bol,15-2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lkus, spazmi m.bešike, išija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Periostna masaž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tkriva neravnine u vidu udubljenja i izbočenja- periostne tačke i blo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agodicom srednjeg prsta 1 u sec 3-5 min, pritisak se pojačava kažiprs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tenokardije, ulkus želuca i dvanaestopalačnog, glavobolja, neuralgij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Segmentna masaž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onalaženje patoloških promena po sloje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brada refleksogenih zona u koži, potkožnom tkivu, mišićima, periostu.. klasičnim hvatovima, 20 min, na II 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zražena hiperemija i odsustvo jakog bo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Hronična KVS, RS, ginekološka,glavobolje, išijal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Masaža vezivnog tkiv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većanje tenzije veziva u Hedovim zonama, reljef kože izmenjen, čvorići u  potkožnom tkivu, slojevi manje pokret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angecijalno povlačenje kože i potkožnog tkiva od fascije jagodicama 3. i 4.prsta; u pravcu linija rascepa uz lak, oštar bol,15-2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lkus, spazmi m.bešike,išija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Manuelna limfna drenaž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pecijalni hvatovi kojima se vrši blagi dozirani pritisak da bi se stimulisala drenaža međućelijske tečnosti preko limfoto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slov: da otok nije prešao u hronič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Manuelna limfna drenaž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Vrste otoka p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r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limfostatič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- urođeno smanjen broj limfnih sudova, 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     oštećenje opekotinama, zapaljenjima, zračenjem, odstranjenje posle 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- funkcionalno (dugo sedenje i stajanj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- insuficijencija desnog s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Manuelna limfna drenaž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limfodinamični oto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- nefroze, nefritis, proširene v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diopatski oto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- povećana propustljivost krvnih su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toci usled insuficijencije sigurnosnog venti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Indikacije za limfnu drenažu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marni limfostatski oto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toci posle operacija ili zračenja 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ttraumatski oto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b Sudeck ( I stadijum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umatološki oto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lavobolja, migr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žiljci, ak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ure mršavlj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Vrste masaže prema nameni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terapijsk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 klasična manuelna mas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 manuelna limfna dren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 refleksna mas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sportska -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prem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 odmarajuć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higijen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A</a:t>
            </a: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paraturna masaž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eumomas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- sinkardijal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bromas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ućni masažer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dromas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škotski tuš, cirkularni tuš, vrtložne kupke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Pneumomasaža (sinkardijalna)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parat “sinkardon” sa manžetn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neumatski impulsi sinhronizovani sistoli ubacuju dodatnu količinu krvi, što cirkulaciju popravlja za oko 5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ndikacij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: Mb Burger, Mb Sudeck, Mb Raunauyd, dijabetična i aterosklerotična gangrena, postoperativni i posttraumatski edemi, varikoziteti, promrzline, opekot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Aparaturna masaž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6858000" cy="411480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Barokomor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63" name="Picture 4" descr="hbo-medical-center-07.jpg"/>
          <p:cNvPicPr/>
          <p:nvPr/>
        </p:nvPicPr>
        <p:blipFill>
          <a:blip r:embed="rId1"/>
          <a:stretch/>
        </p:blipFill>
        <p:spPr>
          <a:xfrm>
            <a:off x="1371600" y="2057400"/>
            <a:ext cx="6524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 </a:t>
            </a:r>
            <a:br>
              <a:rPr sz="4400"/>
            </a:b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Efekti hiperbarične oksigenacij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bra snabdevenost svih tkivnih tečnosti kiseonik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hanički efekat povećanog pritis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cija ugljenmonoks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boljšava mikrocirkulaciju i smanjuje edem tk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bakterijski efek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Indikacije za hiperbari</a:t>
            </a: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čnu oksigenaciju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utne traumatske periferne ishemije: Crush povrede, Compartment sy, opekotine smrzotine.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ferna vaskularna oboljenja: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teriosclerosis 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bangitis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tera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giopathia diabetica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c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is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jabetično stopa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cus cru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Indikacije za hiperbari</a:t>
            </a: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čnu oksigenaciju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44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umatološka oboljenja: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oartroze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oroza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nja posl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povreda mekih tk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topedska oboljenja: Osteomyelitis chr, pre i nakon atroplastike kuka i kolena (naročito kod dijabetiča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loška oboljenja: neuropatije, neuritisi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ude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tanja posle CVI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, posttraumatsk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aralize 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eze, teži oblici migr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Hipobarične procedur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ljadu godin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i Kinezi stavljaljem kupic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pod kojih je bio negativni pritisak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etirali odredjena oboljenj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 grupe vask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arni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30. u Nemačkoj “Saug massag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warschik objasnio način delo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va primena u Dansko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as “Vacusac” i “Vasculato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H</a:t>
            </a: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ipobarične</a:t>
            </a:r>
            <a:r>
              <a:rPr b="1" i="1" lang="en-GB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procedur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ovni deo je staklena kupa koja se postavlja na odr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ment tela nam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finskim ulj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tela je specijalan filc koji propušta vazduh, a spolja je košulja ili čizma koja ne propušta vazdu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o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vakum pumpe iz kupe se izv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vazduh i stva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negativni pritis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binacija podpritiska i nadpritiska poboljšava cirkulaciju, razmenu materija, stvara vazoaktivne materije (serotonin i histam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Hipobarične procedur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prati elektronikom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ja je programirana tako da m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istovremeno da reguliše više razl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ih podpritisaka preko pumpnog sistema u apara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pritiskom od 0,9  do ispod 0,55 atmosfera koje odgovaraju pritisku na visini od oko 5000 meta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Maser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drav,snažan, izdržlj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Školovan, spret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port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puša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govane ru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dekvatno od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govori u toku rada (emfizem pluća, popuštanje desnog srca:Kirchber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Hipobarične procedur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nd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boljenja arteriskog krvotoka, varikoziteti,         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portske povrede, neuralgije, ed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ntraind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hemofilija, trudnoća, antikoagulanta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erapij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86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Srce, kao  pumpa, šalje ćelijama organizma prečišćenu, oksigenisanu i punu hranljivih materija krv putem arterija koje se račvaju sitnije arteriole, a ove, u organima i periferiji organizma, završavaju kao arterijski kapilari. Na tom nivou se vrši razmena hranljivih materija i kiseonika s jedne, i štetnih produkata metabolizma i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O2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s druge st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18284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ko 60%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T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 je voda.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40%  unutar ćelija, a 15% ka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ćelijska tečnost, a 5% u krvnim sudovim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.Č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ovek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od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70 kg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ma 42 kg vod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a periferij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se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jčešće i dešava zastoj u razmeni tečnost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Dnevna izmena iznosi oko 4000 litara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ovoljno je i da se i za samo 0.5 % promene pritisci koji utiču na konverziju likvida pa da se stvori 20 litara viška vode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Vakusak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poremećaja periferne cirkulacije i kod postojanja velikih otoka na ekstremitetima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arat radi na principu primene pritiska i podtiska. Aplikuje se na gornje i donje ektremitete i njegova upotreba dovodi do smanjenja otoka, poboljšanja limfne drenaže i popravljanja cirkulacije u ekstremiteti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Indikacije za vakusak 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edic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terioskleroze, pušačkih nogu, dijabetičnog stopala, limfedema, otoka, proširenih vena i kapilara, slabe cirkulacije, zarastanja rana, ulkusa krurisa, sports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vred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udekove distrofije, gihta, celulopatije, reumatizma, gojaznosti, osteoporoz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Vakusak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87" name="Picture 4" descr="IMG_0030"/>
          <p:cNvPicPr/>
          <p:nvPr/>
        </p:nvPicPr>
        <p:blipFill>
          <a:blip r:embed="rId1"/>
          <a:stretch/>
        </p:blipFill>
        <p:spPr>
          <a:xfrm>
            <a:off x="304920" y="1295280"/>
            <a:ext cx="6324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Hipobarične procedur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743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Vacus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6" descr="vakusak"/>
          <p:cNvPicPr/>
          <p:nvPr/>
        </p:nvPicPr>
        <p:blipFill>
          <a:blip r:embed="rId1"/>
          <a:srcRect l="5311" t="0" r="6045" b="4110"/>
          <a:stretch/>
        </p:blipFill>
        <p:spPr>
          <a:xfrm>
            <a:off x="2819520" y="838080"/>
            <a:ext cx="5722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Hipobarične procedur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2743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Vacus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5" descr="vacusac.JPG"/>
          <p:cNvPicPr/>
          <p:nvPr/>
        </p:nvPicPr>
        <p:blipFill>
          <a:blip r:embed="rId1"/>
          <a:stretch/>
        </p:blipFill>
        <p:spPr>
          <a:xfrm>
            <a:off x="2514600" y="2133720"/>
            <a:ext cx="6323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Vaskulator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95" name="Picture 8" descr="vasculator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523880"/>
            <a:ext cx="6048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.</a:t>
            </a:r>
            <a:br>
              <a:rPr sz="4400"/>
            </a:b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 </a:t>
            </a:r>
            <a:br>
              <a:rPr sz="4400"/>
            </a:br>
            <a:r>
              <a:rPr b="0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Vaskulatorom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se postiže naizmenično povećanje i snižavanje pritiska u cilindrima u kojima se nalaze ekstremiteti. Na taj način se vrši masaža krvnih sudova i poboljšava elastičnost njihovih zidova</a:t>
            </a:r>
            <a:endParaRPr b="0" i="1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97" name="Picture 4" descr="vaskulator.JPG"/>
          <p:cNvPicPr/>
          <p:nvPr/>
        </p:nvPicPr>
        <p:blipFill>
          <a:blip r:embed="rId1"/>
          <a:stretch/>
        </p:blipFill>
        <p:spPr>
          <a:xfrm>
            <a:off x="380880" y="2057400"/>
            <a:ext cx="636588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Uslovi za masiranj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6494400" cy="40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oba: svetla, prostrana, topla, provetr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to za masažu:2m x70 cm x75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redstvo za masažu:talk, vazelin, ulja, lekovite sup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Manuelne tehnik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rak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anipul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9900"/>
                </a:solidFill>
                <a:latin typeface="France YU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ff9900"/>
                </a:solidFill>
                <a:latin typeface="France YU"/>
                <a:ea typeface="Times New Roman"/>
              </a:rPr>
              <a:t>МАНУЕЛНЕ</a:t>
            </a:r>
            <a:r>
              <a:rPr b="0" i="1" lang="en-GB" sz="3200" spc="-1" strike="noStrike">
                <a:solidFill>
                  <a:srgbClr val="ff9900"/>
                </a:solidFill>
                <a:latin typeface="France YU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ff9900"/>
                </a:solidFill>
                <a:latin typeface="France YU"/>
                <a:ea typeface="Times New Roman"/>
              </a:rPr>
              <a:t>ТЕРАПИЈСКЕ</a:t>
            </a:r>
            <a:r>
              <a:rPr b="0" i="1" lang="en-GB" sz="3200" spc="-1" strike="noStrike">
                <a:solidFill>
                  <a:srgbClr val="ff9900"/>
                </a:solidFill>
                <a:latin typeface="France YU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ff9900"/>
                </a:solidFill>
                <a:latin typeface="France YU"/>
                <a:ea typeface="Times New Roman"/>
              </a:rPr>
              <a:t>ТЕХНИКЕ</a:t>
            </a:r>
            <a:endParaRPr b="0" i="1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440" y="1904760"/>
            <a:ext cx="43434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France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манипулаци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France YU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кци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438280" y="434340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13" descr=""/>
          <p:cNvPicPr/>
          <p:nvPr/>
        </p:nvPicPr>
        <p:blipFill>
          <a:blip r:embed="rId1"/>
          <a:stretch/>
        </p:blipFill>
        <p:spPr>
          <a:xfrm>
            <a:off x="2590920" y="3733920"/>
            <a:ext cx="4647960" cy="3124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"/>
          <p:cNvPicPr/>
          <p:nvPr/>
        </p:nvPicPr>
        <p:blipFill>
          <a:blip r:embed="rId2"/>
          <a:stretch/>
        </p:blipFill>
        <p:spPr>
          <a:xfrm>
            <a:off x="4572000" y="228600"/>
            <a:ext cx="4343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206" name="Content Placeholder 3" descr="dp_latcutaway-BB"/>
          <p:cNvPicPr/>
          <p:nvPr/>
        </p:nvPicPr>
        <p:blipFill>
          <a:blip r:embed="rId1"/>
          <a:srcRect l="0" t="0" r="7143" b="0"/>
          <a:stretch/>
        </p:blipFill>
        <p:spPr>
          <a:xfrm>
            <a:off x="914400" y="609480"/>
            <a:ext cx="60166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208" name="Picture 2" descr="C:\Documents and Settings\Info\Desktop\Diskus.jpg"/>
          <p:cNvPicPr/>
          <p:nvPr/>
        </p:nvPicPr>
        <p:blipFill>
          <a:blip r:embed="rId1"/>
          <a:stretch/>
        </p:blipFill>
        <p:spPr>
          <a:xfrm>
            <a:off x="1600200" y="533520"/>
            <a:ext cx="44006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discus herniae za promociju"/>
          <p:cNvPicPr/>
          <p:nvPr/>
        </p:nvPicPr>
        <p:blipFill>
          <a:blip r:embed="rId1"/>
          <a:srcRect l="0" t="44391" r="42357" b="0"/>
          <a:stretch/>
        </p:blipFill>
        <p:spPr>
          <a:xfrm>
            <a:off x="468360" y="2205000"/>
            <a:ext cx="3309840" cy="4240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discus herniae za promociju"/>
          <p:cNvPicPr/>
          <p:nvPr/>
        </p:nvPicPr>
        <p:blipFill>
          <a:blip r:embed="rId2"/>
          <a:srcRect l="5909" t="8313" r="0" b="35115"/>
          <a:stretch/>
        </p:blipFill>
        <p:spPr>
          <a:xfrm>
            <a:off x="3843360" y="1557360"/>
            <a:ext cx="4957920" cy="39592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61740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Лумбална дискус хернија</a:t>
            </a:r>
            <a:endParaRPr b="0" i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2" name="Right Triangle 1"/>
          <p:cNvSpPr/>
          <p:nvPr/>
        </p:nvSpPr>
        <p:spPr>
          <a:xfrm flipV="1" rot="5400000">
            <a:off x="2052360" y="2203560"/>
            <a:ext cx="2087640" cy="165600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3778200" y="4076640"/>
            <a:ext cx="1730520" cy="17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Manuelne tehnik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manuelnoj medicini osnovni pojam je </a:t>
            </a:r>
            <a:r>
              <a:rPr b="0" lang="sr-Latn-CS" sz="2800" spc="-1" strike="noStrike">
                <a:solidFill>
                  <a:srgbClr val="cc0066"/>
                </a:solidFill>
                <a:latin typeface="Times New Roman"/>
              </a:rPr>
              <a:t>funkcionalna blokad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kojom se narušava “igra zglobov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eorija subluksacije (Palm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eorija uticaja degenerativnih promena (Sirijak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eorija uklještenih meniskoida (Eminiger i Ko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urorefleksna (Dvorža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Manuelne tehnik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eurorefleksna teorija (Dvorža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 nepravilan položaj i opretećenje kičme–iritacija mehanoreceptora tip I – povećan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tonus i pojava </a:t>
            </a:r>
            <a:r>
              <a:rPr b="0" lang="sr-Latn-CS" sz="2400" spc="-1" strike="noStrike">
                <a:solidFill>
                  <a:srgbClr val="cc0066"/>
                </a:solidFill>
                <a:latin typeface="Times New Roman"/>
              </a:rPr>
              <a:t>miotendinoz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(fibrozni  čvorići i trake u mišićima i tetivama) – bol i spazam mišića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 manipulacijom se koriguje nepravilan  funkcionalan položaj i draže mehanoreceptori tipa II – oslobađanje enkefalina – smanjuje se bol i spaza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cc0066"/>
                </a:solidFill>
                <a:latin typeface="Times New Roman"/>
              </a:rPr>
              <a:t>obavezna premanipulativna dijagnostika uz Rt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Manuelna tehnik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ilizacija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 serija ritmičnih pokreta u blokiranom zglobu do maksimalne pasivne pokretljiv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ehnika </a:t>
            </a:r>
            <a:r>
              <a:rPr b="0" lang="sr-Latn-CS" sz="3200" spc="-1" strike="noStrike">
                <a:solidFill>
                  <a:srgbClr val="cc0066"/>
                </a:solidFill>
                <a:latin typeface="Times New Roman"/>
              </a:rPr>
              <a:t>male brzine-velike amplitud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amostalno ili kao priprema za manipulaci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Manuelna tehnik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nipulacij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je jednokratan, oštak, relativno nasilan pokret u blokiranom zglobu, koji ne sme da pređe njegovu anatomsku barij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ehnika </a:t>
            </a:r>
            <a:r>
              <a:rPr b="0" lang="sr-Latn-CS" sz="2800" spc="-1" strike="noStrike">
                <a:solidFill>
                  <a:srgbClr val="cc0066"/>
                </a:solidFill>
                <a:latin typeface="Times New Roman"/>
              </a:rPr>
              <a:t>velike brzine-male amplu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direktna (tehnika kratke poluge)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eko pršljenskih nastav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ndirektna (tehnika duge poluge)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eko ruku, ramena, karlice ili noge deluje se na kič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Indikacije za manuelne tehnik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snovna indikacija je </a:t>
            </a:r>
            <a:r>
              <a:rPr b="0" lang="sr-Latn-CS" sz="3200" spc="-1" strike="noStrike">
                <a:solidFill>
                  <a:srgbClr val="cc0066"/>
                </a:solidFill>
                <a:latin typeface="Times New Roman"/>
              </a:rPr>
              <a:t>funkcionalna blokada zglobov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i to II step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kilo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ška i bolna blok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ka blok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ma blok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permobilnost (kontraindikova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Maserski sto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685800" y="2198520"/>
            <a:ext cx="7772400" cy="38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ff9900"/>
                </a:solidFill>
                <a:latin typeface="Times New Roman"/>
              </a:rPr>
              <a:t>Kontraindikacije </a:t>
            </a:r>
            <a:br>
              <a:rPr sz="4000"/>
            </a:br>
            <a:r>
              <a:rPr b="1" i="1" lang="sr-Latn-CS" sz="4000" spc="-1" strike="noStrike">
                <a:solidFill>
                  <a:srgbClr val="ff9900"/>
                </a:solidFill>
                <a:latin typeface="Times New Roman"/>
              </a:rPr>
              <a:t>za manuelne tehnike</a:t>
            </a:r>
            <a:endParaRPr b="0" i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,sveži,, prelomi i luks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alignite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BC kič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nomalije kič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b Bechter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ke discus herni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B insuficijen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sihički poremeća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steoporo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Principi za manuelne tehnik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truč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ecizna dijagnost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vodne procerdure kod jakog spaz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e forsirati jako bolne i ograničene pokr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Trakcij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52280" y="17521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bilo pokušaja jos iz vremena Hipokrata, da se korišćenjem različitih formi istezanja pacijent oslobodi bola u kič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Od tog vremena pa do pre 25 god nalazimo različite vidove spinalne trakcij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iteratura je uglavnom nekompletna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 razmimoilaženja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u opisu tehnike,  trajanja, sile i dovela su do zabune i smanjila interes za korišćenje spinalne trakcije kao vida terapij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znata od Hipokrata,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riax od 195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Trakcij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1066680" y="2057400"/>
            <a:ext cx="57913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Tek poslednjih 25 godina poraslo je interesovanje za korišćenje trakcije, tražena su i nađena nova rešenja, konstruisani su novi, moderni aparati, tako da se “istezanje kičme” uz ostale fizikalne procedure danas koristi kao efektivni način lečenja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Ekstenziona terapija (trakcija)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asivna kineziterapijska metoda koja se sastoji u istezanju-trakciji, određenih delova tela primenom mehaničke s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ajčeće se koristi za kič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i stu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većanje iv prostora za </a:t>
            </a:r>
            <a:r>
              <a:rPr b="0" lang="sr-Latn-CS" sz="3200" spc="-1" strike="noStrike">
                <a:solidFill>
                  <a:srgbClr val="cc0066"/>
                </a:solidFill>
                <a:latin typeface="Times New Roman"/>
              </a:rPr>
              <a:t>1,5 do 2,5 mm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oširenje medjupršljenskih otvor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manjenje iritacije nervnih elemenata i 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237" name="Picture 2" descr="C:\Documents and Settings\Info\Desktop\trak.jpg"/>
          <p:cNvPicPr/>
          <p:nvPr/>
        </p:nvPicPr>
        <p:blipFill>
          <a:blip r:embed="rId1"/>
          <a:stretch/>
        </p:blipFill>
        <p:spPr>
          <a:xfrm>
            <a:off x="2209680" y="457200"/>
            <a:ext cx="52578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akcija slabinske  kičm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239" name="Picture 17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72400" cy="4724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Vrste trakcije-mesto izvodjenj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zanje u postelji po metodi Var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vodna istezanja po Moll-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ertikal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bazen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orizontal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kad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gibna;voda 38 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ezanje distrakcionim stolicama i stol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ezanj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ene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olesnikovog tela u odredjene pol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zanje u toku aktivnih kineziterapijskih v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motrakcij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Mehanička trakcij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stolovi imaju ležište od 2 do 4 ploče, koj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razmiče elektromo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obično se izvodi u ležećem položaju na leđima, pri čemu su noge fiksirane u kukovima i kolenima, a potkolenice postavljene na posebnu platformu koja može da se pomera. U ovom položaju postiže se izravnanj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i relaksacija paravertebralne muskulature. Pomoću pojaseva fiksiraju se grudni koš i karlica za dve susedne ploč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Mehanička trakcija</a:t>
            </a: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prema dejstvu sil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rajna:u krevetu,nekoliko sati dnevno,više da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ntinuirana(statička) istom trakcionom sil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ntermitentna 15-60 s/30-60 s pau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ukcesivno progresiv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Manuelna </a:t>
            </a:r>
            <a:r>
              <a:rPr b="1" i="1" lang="en-GB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masa</a:t>
            </a: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ž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odi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 pokret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uku 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apeuta na telu pacijent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ženje ekstero, proprio i interoceptora – refleksne promene na unutrašnjim organi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ktno dejstvo na tk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Efekti mehaničke trakcij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azmicanje faset (apofiznih) zglob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azmicanje tela pršljen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stezanje mekih tk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elaksacija PV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obilizacija zglob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,Metod izbora malih protruzija DH,, Syri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Pravila izvođenja trakcij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vodne procedure sa analgetskim 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elaksantnim dejstv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avilna fiksacija okolnih segmenata (direktno postavljeni kajšev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stepeno povećanja trakcione s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bolesnih leži još 20-30 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ložaji:pronirani i supinirani ležeći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edeći za vratnu kičm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UVEK individual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Trakcija vratne 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114440" y="152388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mče za fiksiranje preko donje vilice i potilj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1-C2 0-5 stepe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2-C3 10-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5-C7 25-35 ste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nos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iniranog pol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j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:manja sil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veće razmicanje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igurnost,stabil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ClipArt Placeholder 4" descr="Trakcija vrata"/>
          <p:cNvPicPr/>
          <p:nvPr/>
        </p:nvPicPr>
        <p:blipFill>
          <a:blip r:embed="rId1"/>
          <a:srcRect l="6576" t="4539" r="6978" b="1037"/>
          <a:stretch/>
        </p:blipFill>
        <p:spPr>
          <a:xfrm>
            <a:off x="533520" y="380880"/>
            <a:ext cx="35049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Doziranje trakcij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Veličina trakcione sile,vreme trajanja,broj tretmana..progresivno,menja se u toku leč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ervikalna 5-15 min, 10-150 N (1/6-1/4 T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7% 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lumbalna 10-30 min, 200-900 N (1/3-1/2 TT)                                       do 50%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10-20 dana svakodnevno;prekid posle 7 ako ne donosi poboljš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Mere oprez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aglo primenjena sila povećava spazam PV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težano disanje i prekordijalni bol od kajš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jačanje postojećeg bola usled neadekvatne tehn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prezno kod:akutnog bola u vratu u ledjima,gojaznosti,klaustrofobije,dezorijentacije, stanja posle operacije kičme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Kontraindikacije za trakciju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H sa indikacijom za operativno lečenje (medijalna DH,kompresija k.m,deplasman anularnog fragmenta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ostij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infek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steoporoza,RA,duga terapija 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Frakture i subluksacije pršljen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Hipermobilnost i nestabilnost pršljen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um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rčane dekompenz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rudnoć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Indikacije za trakciju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H I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 funkcionalne blokade, protruz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et 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 iliolumb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ženje iv ot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resija ili iritacija spinalnih ner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enerativna oboljenja kič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Istorijat 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kriven 1917. godin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gevi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va primena u medicin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 1928. god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od i Loomis prikazali terapijske efekte delovanja ultrazvuka na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cji organiz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hlman 193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n-GB" sz="4400" spc="-1" strike="noStrike">
                <a:solidFill>
                  <a:srgbClr val="ff9900"/>
                </a:solidFill>
                <a:latin typeface="France YU"/>
                <a:ea typeface="Times New Roman"/>
              </a:rPr>
              <a:t> </a:t>
            </a:r>
            <a:r>
              <a:rPr b="1" lang="en-GB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SONOTERAPIJ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terapija podrazumeva primenu zvuka u terapijske svrh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v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energija je oblik talasastog kretanja, predstavljen longitudinalnim mehan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m treperenjem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ca materije, koje se u vidu zgušnjavanja i razredjivanja prostire kroz gasovitu, t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 i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stu sredinu. Brzina prostiranja zavisi od frekvencije i talasne d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87" descr="kosovka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0000"/>
                </a:solidFill>
                <a:latin typeface="Arial Black"/>
              </a:rPr>
              <a:t>UVOD</a:t>
            </a:r>
            <a:endParaRPr b="0" i="1" lang="en-US" sz="20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2"/>
          <a:stretch/>
        </p:blipFill>
        <p:spPr>
          <a:xfrm>
            <a:off x="2819520" y="4495680"/>
            <a:ext cx="449568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68" name="Group 4"/>
          <p:cNvGrpSpPr/>
          <p:nvPr/>
        </p:nvGrpSpPr>
        <p:grpSpPr>
          <a:xfrm>
            <a:off x="1143000" y="4724280"/>
            <a:ext cx="6781680" cy="1524240"/>
            <a:chOff x="1143000" y="4724280"/>
            <a:chExt cx="6781680" cy="1524240"/>
          </a:xfrm>
        </p:grpSpPr>
        <p:sp>
          <p:nvSpPr>
            <p:cNvPr id="269" name="Text Box 5"/>
            <p:cNvSpPr/>
            <p:nvPr/>
          </p:nvSpPr>
          <p:spPr>
            <a:xfrm>
              <a:off x="2328480" y="5929560"/>
              <a:ext cx="46951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6"/>
            <p:cNvSpPr/>
            <p:nvPr/>
          </p:nvSpPr>
          <p:spPr>
            <a:xfrm>
              <a:off x="2091240" y="4724280"/>
              <a:ext cx="52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7"/>
            <p:cNvSpPr/>
            <p:nvPr/>
          </p:nvSpPr>
          <p:spPr>
            <a:xfrm>
              <a:off x="2423160" y="5220360"/>
              <a:ext cx="0" cy="531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8"/>
            <p:cNvSpPr/>
            <p:nvPr/>
          </p:nvSpPr>
          <p:spPr>
            <a:xfrm>
              <a:off x="1143000" y="4866120"/>
              <a:ext cx="104292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33cc"/>
                  </a:solidFill>
                  <a:latin typeface="Times New Roman"/>
                </a:rPr>
                <a:t>Pravac oscilovanja čestica</a:t>
              </a:r>
              <a:endParaRPr b="0" i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9"/>
            <p:cNvSpPr/>
            <p:nvPr/>
          </p:nvSpPr>
          <p:spPr>
            <a:xfrm flipV="1">
              <a:off x="1949040" y="4830480"/>
              <a:ext cx="379080" cy="1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10"/>
            <p:cNvSpPr/>
            <p:nvPr/>
          </p:nvSpPr>
          <p:spPr>
            <a:xfrm>
              <a:off x="1901520" y="5326920"/>
              <a:ext cx="379440" cy="21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11"/>
            <p:cNvSpPr/>
            <p:nvPr/>
          </p:nvSpPr>
          <p:spPr>
            <a:xfrm>
              <a:off x="6881400" y="4901400"/>
              <a:ext cx="104328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33cc"/>
                  </a:solidFill>
                  <a:latin typeface="Times New Roman"/>
                </a:rPr>
                <a:t>Pravac prostiranja talasa</a:t>
              </a:r>
              <a:endParaRPr b="0" i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Text Box 12"/>
          <p:cNvSpPr/>
          <p:nvPr/>
        </p:nvSpPr>
        <p:spPr>
          <a:xfrm>
            <a:off x="76320" y="3930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0033cc"/>
                </a:solidFill>
                <a:latin typeface="Arial Black"/>
              </a:rPr>
              <a:t>ZVUK</a:t>
            </a:r>
            <a:r>
              <a:rPr b="1" i="1" lang="sr-Latn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Latn-CS" sz="1600" spc="-1" strike="noStrike">
                <a:solidFill>
                  <a:srgbClr val="0000ff"/>
                </a:solidFill>
                <a:latin typeface="Times New Roman"/>
              </a:rPr>
              <a:t>JE MEHANIČKI LONGITUDINALNI TALAS FREKVENTNOG OPSEGA 20 – 20.000 Hz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13"/>
          <p:cNvGrpSpPr/>
          <p:nvPr/>
        </p:nvGrpSpPr>
        <p:grpSpPr>
          <a:xfrm>
            <a:off x="2590920" y="1981080"/>
            <a:ext cx="3886200" cy="2210040"/>
            <a:chOff x="2590920" y="1981080"/>
            <a:chExt cx="3886200" cy="2210040"/>
          </a:xfrm>
        </p:grpSpPr>
        <p:grpSp>
          <p:nvGrpSpPr>
            <p:cNvPr id="278" name="Group 14"/>
            <p:cNvGrpSpPr/>
            <p:nvPr/>
          </p:nvGrpSpPr>
          <p:grpSpPr>
            <a:xfrm>
              <a:off x="3312360" y="2075400"/>
              <a:ext cx="2456640" cy="330120"/>
              <a:chOff x="3312360" y="2075400"/>
              <a:chExt cx="2456640" cy="330120"/>
            </a:xfrm>
          </p:grpSpPr>
          <p:grpSp>
            <p:nvGrpSpPr>
              <p:cNvPr id="279" name="Group 15"/>
              <p:cNvGrpSpPr/>
              <p:nvPr/>
            </p:nvGrpSpPr>
            <p:grpSpPr>
              <a:xfrm>
                <a:off x="4196160" y="2075400"/>
                <a:ext cx="736920" cy="330120"/>
                <a:chOff x="4196160" y="2075400"/>
                <a:chExt cx="736920" cy="330120"/>
              </a:xfrm>
            </p:grpSpPr>
            <p:grpSp>
              <p:nvGrpSpPr>
                <p:cNvPr id="280" name="Group 16"/>
                <p:cNvGrpSpPr/>
                <p:nvPr/>
              </p:nvGrpSpPr>
              <p:grpSpPr>
                <a:xfrm>
                  <a:off x="4380480" y="2075400"/>
                  <a:ext cx="368280" cy="164880"/>
                  <a:chOff x="4380480" y="2075400"/>
                  <a:chExt cx="368280" cy="164880"/>
                </a:xfrm>
              </p:grpSpPr>
              <p:sp>
                <p:nvSpPr>
                  <p:cNvPr id="281" name="Freeform 17"/>
                  <p:cNvSpPr/>
                  <p:nvPr/>
                </p:nvSpPr>
                <p:spPr>
                  <a:xfrm>
                    <a:off x="4380480" y="2075400"/>
                    <a:ext cx="183960" cy="1648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Freeform 18"/>
                  <p:cNvSpPr/>
                  <p:nvPr/>
                </p:nvSpPr>
                <p:spPr>
                  <a:xfrm flipH="1">
                    <a:off x="4564440" y="2075400"/>
                    <a:ext cx="184320" cy="1648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3" name="Freeform 19"/>
                <p:cNvSpPr/>
                <p:nvPr/>
              </p:nvSpPr>
              <p:spPr>
                <a:xfrm flipV="1">
                  <a:off x="4749120" y="2240280"/>
                  <a:ext cx="183960" cy="164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4" name="Group 20"/>
                <p:cNvGrpSpPr/>
                <p:nvPr/>
              </p:nvGrpSpPr>
              <p:grpSpPr>
                <a:xfrm>
                  <a:off x="4380480" y="2075400"/>
                  <a:ext cx="368280" cy="164880"/>
                  <a:chOff x="4380480" y="2075400"/>
                  <a:chExt cx="368280" cy="164880"/>
                </a:xfrm>
              </p:grpSpPr>
              <p:sp>
                <p:nvSpPr>
                  <p:cNvPr id="285" name="Freeform 21"/>
                  <p:cNvSpPr/>
                  <p:nvPr/>
                </p:nvSpPr>
                <p:spPr>
                  <a:xfrm>
                    <a:off x="4380480" y="2075400"/>
                    <a:ext cx="183960" cy="1648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Freeform 22"/>
                  <p:cNvSpPr/>
                  <p:nvPr/>
                </p:nvSpPr>
                <p:spPr>
                  <a:xfrm flipH="1">
                    <a:off x="4564440" y="2075400"/>
                    <a:ext cx="184320" cy="1648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7" name="Freeform 23"/>
                <p:cNvSpPr/>
                <p:nvPr/>
              </p:nvSpPr>
              <p:spPr>
                <a:xfrm flipV="1">
                  <a:off x="4749120" y="2240280"/>
                  <a:ext cx="183960" cy="164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24"/>
                <p:cNvSpPr/>
                <p:nvPr/>
              </p:nvSpPr>
              <p:spPr>
                <a:xfrm flipH="1" flipV="1">
                  <a:off x="4195800" y="2240640"/>
                  <a:ext cx="183960" cy="164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9" name="Line 25"/>
              <p:cNvSpPr/>
              <p:nvPr/>
            </p:nvSpPr>
            <p:spPr>
              <a:xfrm>
                <a:off x="3312360" y="2405520"/>
                <a:ext cx="88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Line 26"/>
              <p:cNvSpPr/>
              <p:nvPr/>
            </p:nvSpPr>
            <p:spPr>
              <a:xfrm>
                <a:off x="4933800" y="2405520"/>
                <a:ext cx="83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Text Box 27"/>
            <p:cNvSpPr/>
            <p:nvPr/>
          </p:nvSpPr>
          <p:spPr>
            <a:xfrm>
              <a:off x="2820960" y="2122560"/>
              <a:ext cx="49104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Times New Roman"/>
                </a:rPr>
                <a:t>a.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28"/>
            <p:cNvSpPr/>
            <p:nvPr/>
          </p:nvSpPr>
          <p:spPr>
            <a:xfrm>
              <a:off x="2820960" y="2831040"/>
              <a:ext cx="49104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Times New Roman"/>
                </a:rPr>
                <a:t>b.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Group 29"/>
            <p:cNvGrpSpPr/>
            <p:nvPr/>
          </p:nvGrpSpPr>
          <p:grpSpPr>
            <a:xfrm>
              <a:off x="3490920" y="2972520"/>
              <a:ext cx="692280" cy="565920"/>
              <a:chOff x="3490920" y="2972520"/>
              <a:chExt cx="692280" cy="565920"/>
            </a:xfrm>
          </p:grpSpPr>
          <p:grpSp>
            <p:nvGrpSpPr>
              <p:cNvPr id="294" name="Group 30"/>
              <p:cNvGrpSpPr/>
              <p:nvPr/>
            </p:nvGrpSpPr>
            <p:grpSpPr>
              <a:xfrm>
                <a:off x="3490920" y="2972520"/>
                <a:ext cx="345960" cy="283320"/>
                <a:chOff x="3490920" y="2972520"/>
                <a:chExt cx="345960" cy="283320"/>
              </a:xfrm>
            </p:grpSpPr>
            <p:sp>
              <p:nvSpPr>
                <p:cNvPr id="295" name="Freeform 31"/>
                <p:cNvSpPr/>
                <p:nvPr/>
              </p:nvSpPr>
              <p:spPr>
                <a:xfrm>
                  <a:off x="3490920" y="29728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Freeform 32"/>
                <p:cNvSpPr/>
                <p:nvPr/>
              </p:nvSpPr>
              <p:spPr>
                <a:xfrm flipH="1">
                  <a:off x="3663360" y="29725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Group 33"/>
              <p:cNvGrpSpPr/>
              <p:nvPr/>
            </p:nvGrpSpPr>
            <p:grpSpPr>
              <a:xfrm>
                <a:off x="3837240" y="3255120"/>
                <a:ext cx="345960" cy="283320"/>
                <a:chOff x="3837240" y="3255120"/>
                <a:chExt cx="345960" cy="283320"/>
              </a:xfrm>
            </p:grpSpPr>
            <p:sp>
              <p:nvSpPr>
                <p:cNvPr id="298" name="Freeform 34"/>
                <p:cNvSpPr/>
                <p:nvPr/>
              </p:nvSpPr>
              <p:spPr>
                <a:xfrm flipV="1">
                  <a:off x="3837240" y="32551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Freeform 35"/>
                <p:cNvSpPr/>
                <p:nvPr/>
              </p:nvSpPr>
              <p:spPr>
                <a:xfrm flipH="1" flipV="1">
                  <a:off x="4009680" y="32554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Group 36"/>
              <p:cNvGrpSpPr/>
              <p:nvPr/>
            </p:nvGrpSpPr>
            <p:grpSpPr>
              <a:xfrm>
                <a:off x="3490920" y="2972520"/>
                <a:ext cx="345960" cy="283320"/>
                <a:chOff x="3490920" y="2972520"/>
                <a:chExt cx="345960" cy="283320"/>
              </a:xfrm>
            </p:grpSpPr>
            <p:sp>
              <p:nvSpPr>
                <p:cNvPr id="301" name="Freeform 37"/>
                <p:cNvSpPr/>
                <p:nvPr/>
              </p:nvSpPr>
              <p:spPr>
                <a:xfrm>
                  <a:off x="3490920" y="29728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Freeform 38"/>
                <p:cNvSpPr/>
                <p:nvPr/>
              </p:nvSpPr>
              <p:spPr>
                <a:xfrm flipH="1">
                  <a:off x="3663360" y="29725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Group 39"/>
              <p:cNvGrpSpPr/>
              <p:nvPr/>
            </p:nvGrpSpPr>
            <p:grpSpPr>
              <a:xfrm>
                <a:off x="3837240" y="3255120"/>
                <a:ext cx="345960" cy="283320"/>
                <a:chOff x="3837240" y="3255120"/>
                <a:chExt cx="345960" cy="283320"/>
              </a:xfrm>
            </p:grpSpPr>
            <p:sp>
              <p:nvSpPr>
                <p:cNvPr id="304" name="Freeform 40"/>
                <p:cNvSpPr/>
                <p:nvPr/>
              </p:nvSpPr>
              <p:spPr>
                <a:xfrm flipV="1">
                  <a:off x="3837240" y="32551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Freeform 41"/>
                <p:cNvSpPr/>
                <p:nvPr/>
              </p:nvSpPr>
              <p:spPr>
                <a:xfrm flipH="1" flipV="1">
                  <a:off x="4009680" y="32554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Group 42"/>
            <p:cNvGrpSpPr/>
            <p:nvPr/>
          </p:nvGrpSpPr>
          <p:grpSpPr>
            <a:xfrm>
              <a:off x="4183920" y="2972520"/>
              <a:ext cx="691200" cy="565920"/>
              <a:chOff x="4183920" y="2972520"/>
              <a:chExt cx="691200" cy="565920"/>
            </a:xfrm>
          </p:grpSpPr>
          <p:grpSp>
            <p:nvGrpSpPr>
              <p:cNvPr id="307" name="Group 43"/>
              <p:cNvGrpSpPr/>
              <p:nvPr/>
            </p:nvGrpSpPr>
            <p:grpSpPr>
              <a:xfrm>
                <a:off x="4183920" y="2972520"/>
                <a:ext cx="345600" cy="283320"/>
                <a:chOff x="4183920" y="2972520"/>
                <a:chExt cx="345600" cy="283320"/>
              </a:xfrm>
            </p:grpSpPr>
            <p:sp>
              <p:nvSpPr>
                <p:cNvPr id="308" name="Freeform 44"/>
                <p:cNvSpPr/>
                <p:nvPr/>
              </p:nvSpPr>
              <p:spPr>
                <a:xfrm>
                  <a:off x="4183920" y="2972880"/>
                  <a:ext cx="17280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Freeform 45"/>
                <p:cNvSpPr/>
                <p:nvPr/>
              </p:nvSpPr>
              <p:spPr>
                <a:xfrm flipH="1">
                  <a:off x="4356720" y="2972520"/>
                  <a:ext cx="17280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Group 46"/>
              <p:cNvGrpSpPr/>
              <p:nvPr/>
            </p:nvGrpSpPr>
            <p:grpSpPr>
              <a:xfrm>
                <a:off x="4529520" y="3255120"/>
                <a:ext cx="345600" cy="283320"/>
                <a:chOff x="4529520" y="3255120"/>
                <a:chExt cx="345600" cy="283320"/>
              </a:xfrm>
            </p:grpSpPr>
            <p:sp>
              <p:nvSpPr>
                <p:cNvPr id="311" name="Freeform 47"/>
                <p:cNvSpPr/>
                <p:nvPr/>
              </p:nvSpPr>
              <p:spPr>
                <a:xfrm flipV="1">
                  <a:off x="4529520" y="3255120"/>
                  <a:ext cx="17280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Freeform 48"/>
                <p:cNvSpPr/>
                <p:nvPr/>
              </p:nvSpPr>
              <p:spPr>
                <a:xfrm flipH="1" flipV="1">
                  <a:off x="4701600" y="32554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Group 49"/>
              <p:cNvGrpSpPr/>
              <p:nvPr/>
            </p:nvGrpSpPr>
            <p:grpSpPr>
              <a:xfrm>
                <a:off x="4183920" y="2972520"/>
                <a:ext cx="345600" cy="283320"/>
                <a:chOff x="4183920" y="2972520"/>
                <a:chExt cx="345600" cy="283320"/>
              </a:xfrm>
            </p:grpSpPr>
            <p:sp>
              <p:nvSpPr>
                <p:cNvPr id="314" name="Freeform 50"/>
                <p:cNvSpPr/>
                <p:nvPr/>
              </p:nvSpPr>
              <p:spPr>
                <a:xfrm>
                  <a:off x="4183920" y="2972880"/>
                  <a:ext cx="17280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Freeform 51"/>
                <p:cNvSpPr/>
                <p:nvPr/>
              </p:nvSpPr>
              <p:spPr>
                <a:xfrm flipH="1">
                  <a:off x="4356720" y="2972520"/>
                  <a:ext cx="17280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Group 52"/>
              <p:cNvGrpSpPr/>
              <p:nvPr/>
            </p:nvGrpSpPr>
            <p:grpSpPr>
              <a:xfrm>
                <a:off x="4529520" y="3255120"/>
                <a:ext cx="345600" cy="283320"/>
                <a:chOff x="4529520" y="3255120"/>
                <a:chExt cx="345600" cy="283320"/>
              </a:xfrm>
            </p:grpSpPr>
            <p:sp>
              <p:nvSpPr>
                <p:cNvPr id="317" name="Freeform 53"/>
                <p:cNvSpPr/>
                <p:nvPr/>
              </p:nvSpPr>
              <p:spPr>
                <a:xfrm flipV="1">
                  <a:off x="4529520" y="3255120"/>
                  <a:ext cx="17280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Freeform 54"/>
                <p:cNvSpPr/>
                <p:nvPr/>
              </p:nvSpPr>
              <p:spPr>
                <a:xfrm flipH="1" flipV="1">
                  <a:off x="4701600" y="32554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9" name="Group 55"/>
            <p:cNvGrpSpPr/>
            <p:nvPr/>
          </p:nvGrpSpPr>
          <p:grpSpPr>
            <a:xfrm>
              <a:off x="4875840" y="2972520"/>
              <a:ext cx="692280" cy="565920"/>
              <a:chOff x="4875840" y="2972520"/>
              <a:chExt cx="692280" cy="565920"/>
            </a:xfrm>
          </p:grpSpPr>
          <p:grpSp>
            <p:nvGrpSpPr>
              <p:cNvPr id="320" name="Group 56"/>
              <p:cNvGrpSpPr/>
              <p:nvPr/>
            </p:nvGrpSpPr>
            <p:grpSpPr>
              <a:xfrm>
                <a:off x="4875840" y="2972520"/>
                <a:ext cx="345960" cy="283320"/>
                <a:chOff x="4875840" y="2972520"/>
                <a:chExt cx="345960" cy="283320"/>
              </a:xfrm>
            </p:grpSpPr>
            <p:sp>
              <p:nvSpPr>
                <p:cNvPr id="321" name="Freeform 57"/>
                <p:cNvSpPr/>
                <p:nvPr/>
              </p:nvSpPr>
              <p:spPr>
                <a:xfrm>
                  <a:off x="4875840" y="29728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Freeform 58"/>
                <p:cNvSpPr/>
                <p:nvPr/>
              </p:nvSpPr>
              <p:spPr>
                <a:xfrm flipH="1">
                  <a:off x="5048280" y="29725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Group 59"/>
              <p:cNvGrpSpPr/>
              <p:nvPr/>
            </p:nvGrpSpPr>
            <p:grpSpPr>
              <a:xfrm>
                <a:off x="5222160" y="3255120"/>
                <a:ext cx="345960" cy="283320"/>
                <a:chOff x="5222160" y="3255120"/>
                <a:chExt cx="345960" cy="283320"/>
              </a:xfrm>
            </p:grpSpPr>
            <p:sp>
              <p:nvSpPr>
                <p:cNvPr id="324" name="Freeform 60"/>
                <p:cNvSpPr/>
                <p:nvPr/>
              </p:nvSpPr>
              <p:spPr>
                <a:xfrm flipV="1">
                  <a:off x="5222160" y="32551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Freeform 61"/>
                <p:cNvSpPr/>
                <p:nvPr/>
              </p:nvSpPr>
              <p:spPr>
                <a:xfrm flipH="1" flipV="1">
                  <a:off x="5394600" y="32554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Group 62"/>
              <p:cNvGrpSpPr/>
              <p:nvPr/>
            </p:nvGrpSpPr>
            <p:grpSpPr>
              <a:xfrm>
                <a:off x="4875840" y="2972520"/>
                <a:ext cx="345960" cy="283320"/>
                <a:chOff x="4875840" y="2972520"/>
                <a:chExt cx="345960" cy="283320"/>
              </a:xfrm>
            </p:grpSpPr>
            <p:sp>
              <p:nvSpPr>
                <p:cNvPr id="327" name="Freeform 63"/>
                <p:cNvSpPr/>
                <p:nvPr/>
              </p:nvSpPr>
              <p:spPr>
                <a:xfrm>
                  <a:off x="4875840" y="29728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Freeform 64"/>
                <p:cNvSpPr/>
                <p:nvPr/>
              </p:nvSpPr>
              <p:spPr>
                <a:xfrm flipH="1">
                  <a:off x="5048280" y="29725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Group 65"/>
              <p:cNvGrpSpPr/>
              <p:nvPr/>
            </p:nvGrpSpPr>
            <p:grpSpPr>
              <a:xfrm>
                <a:off x="5222160" y="3255120"/>
                <a:ext cx="345960" cy="283320"/>
                <a:chOff x="5222160" y="3255120"/>
                <a:chExt cx="345960" cy="283320"/>
              </a:xfrm>
            </p:grpSpPr>
            <p:sp>
              <p:nvSpPr>
                <p:cNvPr id="330" name="Freeform 66"/>
                <p:cNvSpPr/>
                <p:nvPr/>
              </p:nvSpPr>
              <p:spPr>
                <a:xfrm flipV="1">
                  <a:off x="5222160" y="32551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Freeform 67"/>
                <p:cNvSpPr/>
                <p:nvPr/>
              </p:nvSpPr>
              <p:spPr>
                <a:xfrm flipH="1" flipV="1">
                  <a:off x="5394600" y="32554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2" name="Text Box 68"/>
            <p:cNvSpPr/>
            <p:nvPr/>
          </p:nvSpPr>
          <p:spPr>
            <a:xfrm>
              <a:off x="4027320" y="3350160"/>
              <a:ext cx="58032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cc00"/>
                  </a:solidFill>
                  <a:latin typeface="Times New Roman"/>
                </a:rPr>
                <a:t>t=T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69"/>
            <p:cNvSpPr/>
            <p:nvPr/>
          </p:nvSpPr>
          <p:spPr>
            <a:xfrm>
              <a:off x="3312360" y="3255840"/>
              <a:ext cx="245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70"/>
            <p:cNvSpPr/>
            <p:nvPr/>
          </p:nvSpPr>
          <p:spPr>
            <a:xfrm>
              <a:off x="3490920" y="2783520"/>
              <a:ext cx="0" cy="99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71"/>
            <p:cNvSpPr/>
            <p:nvPr/>
          </p:nvSpPr>
          <p:spPr>
            <a:xfrm>
              <a:off x="3044520" y="3303000"/>
              <a:ext cx="58068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cc00"/>
                  </a:solidFill>
                  <a:latin typeface="Times New Roman"/>
                </a:rPr>
                <a:t>t=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72"/>
            <p:cNvSpPr/>
            <p:nvPr/>
          </p:nvSpPr>
          <p:spPr>
            <a:xfrm flipV="1">
              <a:off x="3312360" y="3255480"/>
              <a:ext cx="17856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73"/>
            <p:cNvSpPr/>
            <p:nvPr/>
          </p:nvSpPr>
          <p:spPr>
            <a:xfrm flipH="1" flipV="1">
              <a:off x="4205520" y="3255840"/>
              <a:ext cx="44280" cy="18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74"/>
            <p:cNvSpPr/>
            <p:nvPr/>
          </p:nvSpPr>
          <p:spPr>
            <a:xfrm>
              <a:off x="3669840" y="2783520"/>
              <a:ext cx="0" cy="18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75"/>
            <p:cNvSpPr/>
            <p:nvPr/>
          </p:nvSpPr>
          <p:spPr>
            <a:xfrm>
              <a:off x="4339800" y="2783520"/>
              <a:ext cx="0" cy="18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76"/>
            <p:cNvSpPr/>
            <p:nvPr/>
          </p:nvSpPr>
          <p:spPr>
            <a:xfrm>
              <a:off x="3669840" y="2878200"/>
              <a:ext cx="22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77"/>
            <p:cNvSpPr/>
            <p:nvPr/>
          </p:nvSpPr>
          <p:spPr>
            <a:xfrm>
              <a:off x="4116600" y="2878200"/>
              <a:ext cx="22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78"/>
            <p:cNvSpPr/>
            <p:nvPr/>
          </p:nvSpPr>
          <p:spPr>
            <a:xfrm>
              <a:off x="3848400" y="2689200"/>
              <a:ext cx="4467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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79"/>
            <p:cNvSpPr/>
            <p:nvPr/>
          </p:nvSpPr>
          <p:spPr>
            <a:xfrm>
              <a:off x="5099400" y="2642040"/>
              <a:ext cx="84852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33cc"/>
                  </a:solidFill>
                  <a:latin typeface="Times New Roman"/>
                </a:rPr>
                <a:t>v =</a:t>
              </a:r>
              <a:r>
                <a:rPr b="1" i="1" lang="en-US" sz="14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</a:t>
              </a:r>
              <a:r>
                <a:rPr b="1" i="1" lang="en-US" sz="1400" spc="-1" strike="noStrike">
                  <a:solidFill>
                    <a:srgbClr val="0033cc"/>
                  </a:solidFill>
                  <a:latin typeface="Times New Roman"/>
                </a:rPr>
                <a:t>T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80"/>
            <p:cNvSpPr/>
            <p:nvPr/>
          </p:nvSpPr>
          <p:spPr>
            <a:xfrm>
              <a:off x="4741920" y="2831040"/>
              <a:ext cx="446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81"/>
            <p:cNvSpPr/>
            <p:nvPr/>
          </p:nvSpPr>
          <p:spPr>
            <a:xfrm>
              <a:off x="5724720" y="3066840"/>
              <a:ext cx="49104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cc00"/>
                  </a:solidFill>
                  <a:latin typeface="Times New Roman"/>
                </a:rPr>
                <a:t>x, t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82"/>
            <p:cNvSpPr/>
            <p:nvPr/>
          </p:nvSpPr>
          <p:spPr>
            <a:xfrm>
              <a:off x="3223080" y="2594880"/>
              <a:ext cx="49104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cc00"/>
                  </a:solidFill>
                  <a:latin typeface="Times New Roman"/>
                </a:rPr>
                <a:t>s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83"/>
            <p:cNvSpPr/>
            <p:nvPr/>
          </p:nvSpPr>
          <p:spPr>
            <a:xfrm>
              <a:off x="2590920" y="3766320"/>
              <a:ext cx="388620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84"/>
            <p:cNvSpPr/>
            <p:nvPr/>
          </p:nvSpPr>
          <p:spPr>
            <a:xfrm>
              <a:off x="4920480" y="2169720"/>
              <a:ext cx="446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Text Box 85"/>
            <p:cNvSpPr/>
            <p:nvPr/>
          </p:nvSpPr>
          <p:spPr>
            <a:xfrm>
              <a:off x="5322600" y="1981080"/>
              <a:ext cx="4467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33cc"/>
                  </a:solidFill>
                  <a:latin typeface="Times New Roman"/>
                </a:rPr>
                <a:t>v 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Text Box 86"/>
          <p:cNvSpPr/>
          <p:nvPr/>
        </p:nvSpPr>
        <p:spPr>
          <a:xfrm>
            <a:off x="990720" y="1371600"/>
            <a:ext cx="71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0033cc"/>
                </a:solidFill>
                <a:latin typeface="Arial Black"/>
              </a:rPr>
              <a:t>MEHANIČKI TALASI </a:t>
            </a:r>
            <a:r>
              <a:rPr b="1" i="1" lang="sr-Latn-CS" sz="1600" spc="-1" strike="noStrike">
                <a:solidFill>
                  <a:srgbClr val="000000"/>
                </a:solidFill>
                <a:latin typeface="Arial Black"/>
              </a:rPr>
              <a:t>– </a:t>
            </a:r>
            <a:r>
              <a:rPr b="1" i="1" lang="sr-Latn-CS" sz="1600" spc="-1" strike="noStrike">
                <a:solidFill>
                  <a:srgbClr val="0000ff"/>
                </a:solidFill>
                <a:latin typeface="Arial Black"/>
              </a:rPr>
              <a:t>OSNOVNE KARAKTERISTIK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Glađenje (effleurage)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vodna i završ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d periferije ka centru, sa gradijentom priti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fekti: deskvamacija epitela, resorpcija otoka, analgezija, sed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luje na površna tk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657600" cy="3962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ZVUK I ULTRAZVUK</a:t>
            </a:r>
            <a:endParaRPr b="0" i="1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0" y="1828800"/>
            <a:ext cx="198108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cc"/>
                </a:solidFill>
                <a:latin typeface="Times New Roman"/>
              </a:rPr>
              <a:t>Zvuk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cc00"/>
                </a:solidFill>
                <a:latin typeface="Times New Roman"/>
              </a:rPr>
              <a:t>Ultrazvuk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2209680" y="1447920"/>
            <a:ext cx="2819520" cy="25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Frekvencij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cc"/>
                </a:solidFill>
                <a:latin typeface="Times New Roman"/>
                <a:ea typeface="Arial"/>
              </a:rPr>
              <a:t>20-20.000 Hz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cc00"/>
                </a:solidFill>
                <a:latin typeface="Times New Roman"/>
                <a:ea typeface="Arial"/>
              </a:rPr>
              <a:t>20.000 Hz – 10</a:t>
            </a:r>
            <a:r>
              <a:rPr b="1" lang="sr-Latn-CS" sz="2400" spc="-1" strike="noStrike" baseline="30000">
                <a:solidFill>
                  <a:srgbClr val="00cc00"/>
                </a:solidFill>
                <a:latin typeface="Times New Roman"/>
                <a:ea typeface="Arial"/>
              </a:rPr>
              <a:t>9</a:t>
            </a:r>
            <a:r>
              <a:rPr b="1" lang="sr-Latn-CS" sz="2400" spc="-1" strike="noStrike">
                <a:solidFill>
                  <a:srgbClr val="00cc00"/>
                </a:solidFill>
                <a:latin typeface="Times New Roman"/>
                <a:ea typeface="Arial"/>
              </a:rPr>
              <a:t> Hz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4876920" y="1447920"/>
            <a:ext cx="4267080" cy="30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ntenzit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cc"/>
                </a:solidFill>
                <a:latin typeface="Times New Roman"/>
                <a:ea typeface="Arial"/>
              </a:rPr>
              <a:t>10</a:t>
            </a:r>
            <a:r>
              <a:rPr b="1" lang="sr-Latn-CS" sz="2400" spc="-1" strike="noStrike" baseline="30000">
                <a:solidFill>
                  <a:srgbClr val="0033cc"/>
                </a:solidFill>
                <a:latin typeface="Times New Roman"/>
                <a:ea typeface="Arial"/>
              </a:rPr>
              <a:t>-12</a:t>
            </a:r>
            <a:r>
              <a:rPr b="1" lang="sr-Latn-CS" sz="2400" spc="-1" strike="noStrike">
                <a:solidFill>
                  <a:srgbClr val="0033cc"/>
                </a:solidFill>
                <a:latin typeface="Times New Roman"/>
                <a:ea typeface="Arial"/>
              </a:rPr>
              <a:t> W/m</a:t>
            </a:r>
            <a:r>
              <a:rPr b="1" lang="sr-Latn-CS" sz="2400" spc="-1" strike="noStrike" baseline="30000">
                <a:solidFill>
                  <a:srgbClr val="0033cc"/>
                </a:solidFill>
                <a:latin typeface="Times New Roman"/>
                <a:ea typeface="Arial"/>
              </a:rPr>
              <a:t>2</a:t>
            </a:r>
            <a:r>
              <a:rPr b="1" lang="sr-Latn-CS" sz="2400" spc="-1" strike="noStrike">
                <a:solidFill>
                  <a:srgbClr val="0033cc"/>
                </a:solidFill>
                <a:latin typeface="Times New Roman"/>
                <a:ea typeface="Arial"/>
              </a:rPr>
              <a:t>-</a:t>
            </a:r>
            <a:r>
              <a:rPr b="1" lang="sr-Latn-CS" sz="2400" spc="-1" strike="noStrike" baseline="30000">
                <a:solidFill>
                  <a:srgbClr val="0033cc"/>
                </a:solidFill>
                <a:latin typeface="Times New Roman"/>
                <a:ea typeface="Arial"/>
              </a:rPr>
              <a:t> </a:t>
            </a:r>
            <a:r>
              <a:rPr b="1" lang="sr-Latn-CS" sz="2400" spc="-1" strike="noStrike">
                <a:solidFill>
                  <a:srgbClr val="0033cc"/>
                </a:solidFill>
                <a:latin typeface="Times New Roman"/>
              </a:rPr>
              <a:t>10 W/m</a:t>
            </a:r>
            <a:r>
              <a:rPr b="1" lang="sr-Latn-CS" sz="24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cc00"/>
                </a:solidFill>
                <a:latin typeface="Times New Roman"/>
              </a:rPr>
              <a:t>Dijagnostički  10</a:t>
            </a:r>
            <a:r>
              <a:rPr b="1" lang="sl-SI" sz="2400" spc="-1" strike="noStrike">
                <a:solidFill>
                  <a:srgbClr val="00cc00"/>
                </a:solidFill>
                <a:latin typeface="Times New Roman"/>
              </a:rPr>
              <a:t> - 40 W/m</a:t>
            </a:r>
            <a:r>
              <a:rPr b="1" lang="sl-SI" sz="2400" spc="-1" strike="noStrike" baseline="30000">
                <a:solidFill>
                  <a:srgbClr val="00cc00"/>
                </a:solidFill>
                <a:latin typeface="Times New Roman"/>
              </a:rPr>
              <a:t>2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cc00"/>
                </a:solidFill>
                <a:latin typeface="Times New Roman"/>
              </a:rPr>
              <a:t>Terapijski 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Arial"/>
              </a:rPr>
              <a:t>&gt;</a:t>
            </a:r>
            <a:r>
              <a:rPr b="1" lang="sr-Latn-CS" sz="2400" spc="-1" strike="noStrike">
                <a:solidFill>
                  <a:srgbClr val="00cc00"/>
                </a:solidFill>
                <a:latin typeface="Times New Roman"/>
                <a:ea typeface="Arial"/>
              </a:rPr>
              <a:t> 1.000 W/m</a:t>
            </a:r>
            <a:r>
              <a:rPr b="1" lang="sr-Latn-CS" sz="2400" spc="-1" strike="noStrike" baseline="30000">
                <a:solidFill>
                  <a:srgbClr val="00cc00"/>
                </a:solidFill>
                <a:latin typeface="Times New Roman"/>
                <a:ea typeface="Arial"/>
              </a:rPr>
              <a:t>2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32004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870 KHz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Fi</a:t>
            </a: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z</a:t>
            </a: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i</a:t>
            </a: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č</a:t>
            </a: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ke osobin</a:t>
            </a: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e ultrazvuk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trazvuk koji se koristi u fizikalnoj medicini ima frekvencij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870 KHz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talasnu d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u 0,4 m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zi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stiranja kroz metale  5000 m/sec, kroz vodu 1500 m/sec, kroz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a tkiva 1540 m/sec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roz vazduh 300 m/se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ast temperature sredine kroz koju prolazi ultrazvuk uslovljava i pov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je njegove brz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Fizičke osobine</a:t>
            </a: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 ultrazvuk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avolinijsko prostiranje u homogenoj sred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elamanje i odbijanje na granici između dve sred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psorpcija u zavisnosti od frekvencije i provodljivosti sred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odorno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2-5 cm (1 MHz), 1 cm (3 MHz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ntaktni medijum (parafin, vazelin, voda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Aparat</a:t>
            </a: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 za ultrazvuk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361" name="Picture 3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čini dobijanj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han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ostriktiv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ktromehan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j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elektr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9900"/>
                </a:solidFill>
                <a:latin typeface="Times New Roman"/>
              </a:rPr>
              <a:t>Metodika primene ultrazvuk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Stabi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Labi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Direkt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Subakv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Metodika </a:t>
            </a: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primene ultrazvuk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367" name="Picture 3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i="1" lang="sr-Latn-CS" sz="4000" spc="-1" strike="noStrike">
                <a:solidFill>
                  <a:srgbClr val="ff9900"/>
                </a:solidFill>
                <a:latin typeface="Times New Roman"/>
              </a:rPr>
              <a:t>Subakvalna metoda </a:t>
            </a:r>
            <a:endParaRPr b="0" i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370" name="Picture 5" descr="to 2"/>
          <p:cNvPicPr/>
          <p:nvPr/>
        </p:nvPicPr>
        <p:blipFill>
          <a:blip r:embed="rId1"/>
          <a:stretch/>
        </p:blipFill>
        <p:spPr>
          <a:xfrm>
            <a:off x="838080" y="1981080"/>
            <a:ext cx="53596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6" descr="kosovka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7"/>
          <p:cNvSpPr/>
          <p:nvPr/>
        </p:nvSpPr>
        <p:spPr>
          <a:xfrm>
            <a:off x="0" y="11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DIREKTNA-KONTAKTN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ETOD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PRIMENE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13" descr="uzv_sl1"/>
          <p:cNvPicPr/>
          <p:nvPr/>
        </p:nvPicPr>
        <p:blipFill>
          <a:blip r:embed="rId2"/>
          <a:stretch/>
        </p:blipFill>
        <p:spPr>
          <a:xfrm>
            <a:off x="1143000" y="836640"/>
            <a:ext cx="7748640" cy="6021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Primarno delovanje</a:t>
            </a:r>
            <a:r>
              <a:rPr b="1" lang="sr-Latn-CS" sz="4400" spc="-1" strike="noStrike">
                <a:solidFill>
                  <a:srgbClr val="ff9900"/>
                </a:solidFill>
                <a:latin typeface="Times New Roman"/>
              </a:rPr>
              <a:t> ultrazvuka</a:t>
            </a:r>
            <a:r>
              <a:rPr b="0" lang="sr-Latn-CS" sz="4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hani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č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o delov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 delov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zikohemijsko delov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refleksno delov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9900"/>
                </a:solidFill>
                <a:latin typeface="Times New Roman"/>
              </a:rPr>
              <a:t>Mehaničko dejstvo ultrazvuk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ikromasaža tkiva na ćelijskom i subćelijskom niv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većanje propustljivosti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većanje difuzije i metaboliz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elaz uz stanja gel u stanje 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Češljanje 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dvrsta glađ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rzalnom stranom prstiju šake koja je savijena u pesnic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4876920" y="2057400"/>
            <a:ext cx="396216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9900"/>
                </a:solidFill>
                <a:latin typeface="Times New Roman"/>
              </a:rPr>
              <a:t>Fizikohemijsko dejstvo ultrazvuka</a:t>
            </a:r>
            <a:r>
              <a:rPr b="0" lang="sr-Latn-CS" sz="40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većanje oksidativnih proc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omena pH (alkaloz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tvaranje biološki aktivnih mater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Sekundarn</a:t>
            </a:r>
            <a:r>
              <a:rPr b="1" lang="sr-Latn-CS" sz="44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 delovanj</a:t>
            </a:r>
            <a:r>
              <a:rPr b="1" lang="sr-Latn-CS" sz="4400" spc="-1" strike="noStrike">
                <a:solidFill>
                  <a:srgbClr val="ff9900"/>
                </a:solidFill>
                <a:latin typeface="Times New Roman"/>
              </a:rPr>
              <a:t>a ultrazvuk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ge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zmolit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inflamator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atikolit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boljšanje mikrocirkulacije, trofike i regeneracije tk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fibrinolitič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9900"/>
                </a:solidFill>
                <a:latin typeface="Times New Roman"/>
              </a:rPr>
              <a:t>Neželjena dejstva sonoterapij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fenomen kavitacije (manje do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fenomen stojećih talasa (labilna prime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Doziranje ultrazvuk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ači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isk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,05-0,4 W/cm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srednje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,5-1,0 W/cm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jake doze: preko 1 W/cm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vršina: 150-200 cm2, 2-3 po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vreme: 3-5 mi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Impulsni ultrazvuk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kvencija impulsnog ultrazvuka naj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š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je 100 Hz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odnos trajanja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mpulsa i pauz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rec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 rasponu od 1:5 do 1: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onodinator, sonoforez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Kombinovana primena UZ i IFS Kombinovana primena  UZ i DDS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389" name="Picture 3" descr="UZ3"/>
          <p:cNvPicPr/>
          <p:nvPr/>
        </p:nvPicPr>
        <p:blipFill>
          <a:blip r:embed="rId1"/>
          <a:srcRect l="1714" t="5827" r="7195" b="0"/>
          <a:stretch/>
        </p:blipFill>
        <p:spPr>
          <a:xfrm>
            <a:off x="520560" y="2690640"/>
            <a:ext cx="3403800" cy="36338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UZ - DDS"/>
          <p:cNvPicPr/>
          <p:nvPr/>
        </p:nvPicPr>
        <p:blipFill>
          <a:blip r:embed="rId2"/>
          <a:srcRect l="2040" t="14270" r="1991" b="4470"/>
          <a:stretch/>
        </p:blipFill>
        <p:spPr>
          <a:xfrm>
            <a:off x="4648320" y="2502000"/>
            <a:ext cx="426708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Indikacije</a:t>
            </a:r>
            <a:r>
              <a:rPr b="1" lang="sr-Latn-C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za sonoterapiju</a:t>
            </a:r>
            <a:r>
              <a:rPr b="0" lang="en-GB" sz="4400" spc="-1" strike="noStrike">
                <a:solidFill>
                  <a:srgbClr val="ff9900"/>
                </a:solidFill>
                <a:latin typeface="France YU"/>
                <a:ea typeface="Times New Roman"/>
              </a:rPr>
              <a:t> 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eloidi i ožilj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upuytren-ova kontrak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rtroze, RA, Mb Bechter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endovaginitis, PAHS, epikondiliti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ntrak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ttraumatska stanja i njihove kompl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uralgije, kauzalgije, kokcigodi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azaranje kamena, Mb Meniere, operacije hipofiz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Ograničenja za sonoterapiju</a:t>
            </a:r>
            <a:r>
              <a:rPr b="0" lang="en-GB" sz="4400" spc="-1" strike="noStrike">
                <a:solidFill>
                  <a:srgbClr val="ff9900"/>
                </a:solidFill>
                <a:latin typeface="France YU"/>
                <a:ea typeface="Times New Roman"/>
              </a:rPr>
              <a:t> 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ne primenjuje s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redelu glav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linija rasta kose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edulae spinalis, gravidne materic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u d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 uzrast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zone ras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sustvo metala u polju </a:t>
            </a:r>
            <a:r>
              <a:rPr b="0" lang="sr-Latn-CS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nije kontraindik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9900"/>
                </a:solidFill>
                <a:latin typeface="Times New Roman"/>
              </a:rPr>
              <a:t>Kontraindikacije</a:t>
            </a:r>
            <a:r>
              <a:rPr b="0" lang="sr-Latn-CS" sz="4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9900"/>
                </a:solidFill>
                <a:latin typeface="Times New Roman"/>
              </a:rPr>
              <a:t>za sonoterapiju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rombofleb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rvarenje i sklonost ka krvare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steoporo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kutna infektivna obolj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bronhijektaz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ekompenzacije vitalnih organ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9:40:59Z</dcterms:created>
  <dc:creator>WIN98SE</dc:creator>
  <dc:description/>
  <dc:language>en-US</dc:language>
  <cp:lastModifiedBy>Info</cp:lastModifiedBy>
  <dcterms:modified xsi:type="dcterms:W3CDTF">2016-11-28T07:45:04Z</dcterms:modified>
  <cp:revision>77</cp:revision>
  <dc:subject/>
  <dc:title>MEHANOTERAPIJA </dc:title>
</cp:coreProperties>
</file>